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05E-2731-4DFF-A941-E8DFE9D2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980-F9D6-46A2-A66C-592AFB5B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E1FF-5716-4142-B6B7-FF75A1C1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0AC-1BD5-4407-A35C-F9709F94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C4D-04B5-4705-88C3-8518DFA1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CF4-7DA3-4996-A2DB-1D8380A1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092-AE95-4EA9-9AFC-14E76CE4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A236-C6D2-443B-BADE-E91116E5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6A96-AAB2-4251-94D0-53400EE6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8F2-8478-4E73-A05E-D5C3D286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925-F951-474D-A30E-205F8F2F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5A79-FF9E-4DE7-86DD-3B9A9837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2D3E-8246-4F6A-99D0-61B0AB1A3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5 Pán Ježiš, Priateľ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, Priateľ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ej krásy, blaha zdr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nebeský Ote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nám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ho vždycky chc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iluje ma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on je srdca môjho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roda krásna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jej Tvorca daru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skvostný ša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kvetov nádhern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krásu vnímať 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vždy sa tešiť sm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tých Božích divov úžasn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sny je slnka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táčat spev keď blaží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sny aj hviezdnat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ci sv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slnko jasnejš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hviezdy stálejš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Ježiš Kristus môže by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sny je jarný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sna mladosť, ktorej kv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pálil, neznič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u mrá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s mladosť odva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ôvab sa pomi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Ježiš je zdr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ých krá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06:51Z</dcterms:modified>
  <cp:revision>31</cp:revision>
  <dc:subject/>
  <dc:title>Je veľký náš Pán, on slávy je Kráľ Nech do všetkých strán  spev vrúcnych znie chvál.</dc:title>
</cp:coreProperties>
</file>